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8744-AE00-47C6-9636-F97517BF1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30EA-283E-4E96-A4EF-EB39BE2A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482F-E4FA-4019-9769-D9E0937DA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E942-037D-437B-8693-72E817542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5928-1B92-4BE5-B150-7EC13287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D1AB-42A4-424C-970C-B1E802A0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4AEC-FE13-4774-AED9-B42DB9F6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529A-5FCC-4B5D-8517-0AA32D67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D961-5C8C-40C1-8A3C-7E1883EC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639E-7A42-48E4-8FF6-A6C3AEDB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5443-6CC4-42C1-9DF4-D92F3C1E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5CF2-0C6B-44B2-8756-7B4FCDC8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2809-2DCD-4211-97C8-4C9E5821FFD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brasil.gov.br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2708280"/>
            <a:ext cx="8305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8000" y="106200"/>
            <a:ext cx="1876320" cy="874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8000" y="115920"/>
            <a:ext cx="2514600" cy="838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480" y="1600200"/>
            <a:ext cx="7993080" cy="26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99"/>
                </a:solidFill>
                <a:latin typeface="Arial"/>
              </a:rPr>
              <a:t>Resolução de Reúso de Água – CNR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CONSELHO NACIONAL DE RECURSOS HÍD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Câmara Técnica de Ciência e Tecn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XVI Simpósio Brasileiro de Recursos Híd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5029200"/>
            <a:ext cx="820872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9999"/>
                </a:solidFill>
                <a:latin typeface="Times New Roman"/>
              </a:rPr>
              <a:t>Engº Agrº Devanir Garcia dos Santos</a:t>
            </a:r>
            <a:br>
              <a:rPr sz="1600"/>
            </a:br>
            <a:r>
              <a:rPr b="1" lang="pt-BR" sz="1600" spc="-1" strike="noStrike">
                <a:solidFill>
                  <a:srgbClr val="009999"/>
                </a:solidFill>
                <a:latin typeface="Times New Roman"/>
              </a:rPr>
              <a:t>MSc Gestão Econômica do Meio Ambiente</a:t>
            </a:r>
            <a:br>
              <a:rPr sz="1600"/>
            </a:br>
            <a:r>
              <a:rPr b="1" lang="pt-BR" sz="1600" spc="-1" strike="noStrike">
                <a:solidFill>
                  <a:srgbClr val="009999"/>
                </a:solidFill>
                <a:latin typeface="Times New Roman"/>
              </a:rPr>
              <a:t>Gerente da Superintendência de Conservação de Água e Solo</a:t>
            </a:r>
            <a:br>
              <a:rPr sz="1600"/>
            </a:br>
            <a:br>
              <a:rPr sz="1600"/>
            </a:br>
            <a:r>
              <a:rPr b="1" lang="pt-BR" sz="2000" spc="-1" strike="noStrike">
                <a:solidFill>
                  <a:srgbClr val="009999"/>
                </a:solidFill>
                <a:latin typeface="Times New Roman"/>
              </a:rPr>
              <a:t>João Pessoa - Novembro de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260280"/>
            <a:ext cx="38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STÉRIO DO MEIO AMB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POSTA DE RESOLUÇÃO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úso Direto não Potável de Ág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Arial"/>
              </a:rPr>
              <a:t>Considerando 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O reúso de água constitui prática de racionaliz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A escassez está relacionada a aspectos de qualidade e quantidade de águ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São elevados os custos de tratamento da águ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A prática de reúso contribui para a proteção do meio ambie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Finalidade: estabelecer modalidades, diretrizes, critérios gerais que regulamentem e estimulem a prática de reúso no 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úso Direto não Potável de Ág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dalida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Urbanos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(irrigação paisagística, lavagem de logradouros públicos, desobstrução de tubulações, etc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grícolas e florestais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(aplicação de água de reúso para produção agrícola e cultivo de florestas plantadas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mbientais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(utilização de água de reúso para a implantação de projetos de recuperação ambienta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ndustriais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 ( utilização de água de reúso em processos, atividades e operações industriai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qüicultura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( utilização de água de reúso para a criação de animais ou cultivo de vegetais aquátic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"/>
              </a:rPr>
              <a:t>Reúso Direto não Potável de Ág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rincipais propostas da resolu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s órgãos integrantes do SINGREH avaliarão os efeitos sobre os corpos hídricos e estabelecerão instrumentos regulatórios e de incen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s planos de recursos hídricos deverão contemplar estudos de alternativas de utilização da água de reús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s SIRH deverão incorporar, organizar e tornar disponíveis  as informações sobre práticas de reuso necessárias  ao gerenciamento dos recursos hídric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s comitês dever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ropor, na implementação da cobrança pelo uso da água, instrumento econômicos e financeiros que induzam a prática do reús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ntegrar, no âmbito do Plano de Recursos Hídricos da bacia, a prática do reúso com as ações de saneamento ambiental e de uso e ocupação do sol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"/>
              </a:rPr>
              <a:t>Reúso Direto não Potável de Ág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rincipais propostas da resoluçã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A atividade de reúso de água deverá ser informada, quando requerida, ao órgão gesto de recursos hídricos, para fins de cadastr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Deverão ser incentivado e promovidos programas de capacitação, mobilização social e informação quanto a sustentabilidade do reúso, em especial nos aspectos sanitários e ambienta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O disposto nesta Resolução não exime o produtor, o distribuidor e o usuário de água de reúso não potável da respectiva licença ambi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440240" y="3922560"/>
            <a:ext cx="4575240" cy="29019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440240" y="846000"/>
            <a:ext cx="4575240" cy="29019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01800" y="2536920"/>
            <a:ext cx="2384280" cy="34621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396720" y="1057320"/>
            <a:ext cx="355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POLUIÇÃO NO RIO TIET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6012000"/>
            <a:ext cx="3322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Verdana"/>
              </a:rPr>
              <a:t>Pirapora do Bom Jesus / 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941640" y="3083040"/>
            <a:ext cx="5202360" cy="3774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76720" cy="3843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92720" y="476280"/>
            <a:ext cx="38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io Tietê – Década de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501336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91280" y="1484280"/>
            <a:ext cx="38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io Tietê – Década de 90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93080" y="1989000"/>
            <a:ext cx="358560" cy="719280"/>
          </a:xfrm>
          <a:prstGeom prst="downArrow">
            <a:avLst>
              <a:gd name="adj1" fmla="val 50000"/>
              <a:gd name="adj2" fmla="val 5015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35280" y="5300640"/>
            <a:ext cx="14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16360" y="90792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32000" y="501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4797360"/>
            <a:ext cx="18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???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587700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io Tietê – Em 2040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3789360"/>
            <a:ext cx="9144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Tahoma"/>
              </a:rPr>
              <a:t>Setor Policial - Área 5 – Quadra 3 - Bloco L - Brasília – DF - 70610-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Tahoma"/>
              </a:rPr>
              <a:t>Telefone: (61) 2109-5212 - sas@ana.gov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Courier New"/>
              </a:rPr>
              <a:t>http://www.ana.gov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Courier New"/>
              </a:rPr>
              <a:t>devanir@ana.gov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Courier New"/>
              </a:rPr>
              <a:t>Obrigad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" y="0"/>
            <a:ext cx="9140760" cy="907920"/>
          </a:xfrm>
          <a:custGeom>
            <a:avLst/>
            <a:gdLst/>
            <a:ahLst/>
            <a:rect l="l" t="t" r="r" b="b"/>
            <a:pathLst>
              <a:path w="5740" h="1906">
                <a:moveTo>
                  <a:pt x="0" y="0"/>
                </a:moveTo>
                <a:lnTo>
                  <a:pt x="0" y="1906"/>
                </a:lnTo>
                <a:lnTo>
                  <a:pt x="5740" y="1906"/>
                </a:lnTo>
                <a:lnTo>
                  <a:pt x="574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0"/>
            <a:ext cx="363528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76720" cy="1674720"/>
          </a:xfrm>
          <a:prstGeom prst="rect">
            <a:avLst/>
          </a:prstGeom>
          <a:ln w="0">
            <a:noFill/>
          </a:ln>
        </p:spPr>
      </p:pic>
      <p:grpSp>
        <p:nvGrpSpPr>
          <p:cNvPr id="76" name=""/>
          <p:cNvGrpSpPr/>
          <p:nvPr/>
        </p:nvGrpSpPr>
        <p:grpSpPr>
          <a:xfrm>
            <a:off x="5508720" y="0"/>
            <a:ext cx="3635280" cy="1598760"/>
            <a:chOff x="5508720" y="0"/>
            <a:chExt cx="3635280" cy="1598760"/>
          </a:xfrm>
        </p:grpSpPr>
        <p:pic>
          <p:nvPicPr>
            <p:cNvPr id="77" name="" descr=""/>
            <p:cNvPicPr/>
            <p:nvPr/>
          </p:nvPicPr>
          <p:blipFill>
            <a:blip r:embed="rId3"/>
            <a:stretch/>
          </p:blipFill>
          <p:spPr>
            <a:xfrm>
              <a:off x="5508720" y="263520"/>
              <a:ext cx="363528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5572440" y="0"/>
              <a:ext cx="3541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Hv BT"/>
                </a:rPr>
                <a:t>MINISTÉRIO DO MEIO AMBI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19:37:57Z</dcterms:created>
  <dc:creator>devanir</dc:creator>
  <dc:description/>
  <dc:language>en-US</dc:language>
  <cp:lastModifiedBy>devanir</cp:lastModifiedBy>
  <dcterms:modified xsi:type="dcterms:W3CDTF">2005-11-17T14:57:38Z</dcterms:modified>
  <cp:revision>22</cp:revision>
  <dc:subject/>
  <dc:title>Slide 1</dc:title>
</cp:coreProperties>
</file>